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CA38E-BD0D-4EE9-923B-9F68672E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31835-4747-4D09-811B-89AB6D03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2010B-714F-42A8-93A0-67FD249D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C9B8C-5BDC-4C99-BB8A-733B7FC9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5556-16B3-414A-88FA-CDC62CD0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82F5-9145-4888-9010-1C48BA84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760B-1B78-40C8-8733-D6EAF58D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1C30-AF9C-4147-B5D3-229FC240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74A7-7679-4C3C-9071-458212B6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D59D-EC08-4F12-AC7F-EEFB941D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D01C-B26D-4B64-8928-432A8A1E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99E5A-AAA2-4ED0-88ED-8389D3AA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A040-32B8-40CF-955A-DBAC8073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0229-4A0F-4CCE-A685-BEC2B0AA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49D5-AD31-4AD2-97BD-8F0901C3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2030-8CA9-4C39-BE2F-A97406F4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0771-D644-49F4-9293-F45773A5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20184-1572-4802-BAF6-80F33B7E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6709-5EFA-4B7E-9163-4C28E8EE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7C6E9-DF43-4851-8D6C-9EF4E278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E788A-277E-419B-AF46-CD7D18E7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72D07-E11F-489D-A5D5-F39419E5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6C793-2341-4A8F-A88D-14909554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34F8A-D617-4910-AE5C-382187AB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3D80-A529-4F63-8E0A-E22A236371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9A3B-0632-4FAA-9EC3-02807866D6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02920" y="2491920"/>
            <a:ext cx="622476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Η νεκρωτική παγκρεατίτιδα θα πρέπει να χειρουργείται όσο το δυνατόν αργότερα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ΑΦΟΡΙΣΜΟΣ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cc00"/>
                </a:solidFill>
                <a:latin typeface="Garamond"/>
              </a:rPr>
              <a:t>Ελάχιστα επεμβατικές τεχνικές από ενδοσκόπους ή ακτινολόγου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cc00"/>
                </a:solidFill>
                <a:latin typeface="Garamond"/>
              </a:rPr>
              <a:t>Καθοδηγούμενη διαδερμική τοποθέτηση σταδιακά αυξανόμενης διαμέτρου καθετήρα και </a:t>
            </a:r>
            <a:r>
              <a:rPr b="1" lang="el-GR" sz="4000" spc="-1" strike="noStrike" u="sng">
                <a:solidFill>
                  <a:srgbClr val="ffcc00"/>
                </a:solidFill>
                <a:uFillTx/>
                <a:latin typeface="Garamond"/>
              </a:rPr>
              <a:t>πλύσεις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(Freeny P. 1998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cc00"/>
                </a:solidFill>
                <a:latin typeface="Garamond"/>
              </a:rPr>
              <a:t>Ελάχιστα επεμβατικές τεχνικές από ενδοσκόπους ή ακτινολόγου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cc00"/>
                </a:solidFill>
                <a:latin typeface="Garamond"/>
              </a:rPr>
              <a:t>Πρόσθετη χρήση ενδοσκοπικών εργαλείων για απομάκρυνση νεκρωμάτων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(Gweinwieser 1997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cc00"/>
                </a:solidFill>
                <a:latin typeface="Garamond"/>
              </a:rPr>
              <a:t>Ελάχιστα επεμβατικές τεχνικές από ενδοσκόπους ή ακτινολόγου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cc00"/>
                </a:solidFill>
                <a:latin typeface="Garamond"/>
              </a:rPr>
              <a:t>Ενδοσκοπική δημιουργία γαστρο-κυστεοστομίας και </a:t>
            </a:r>
            <a:r>
              <a:rPr b="1" lang="el-GR" sz="4000" spc="-1" strike="noStrike" u="sng">
                <a:solidFill>
                  <a:srgbClr val="ffcc00"/>
                </a:solidFill>
                <a:uFillTx/>
                <a:latin typeface="Garamond"/>
              </a:rPr>
              <a:t>πλύσεις </a:t>
            </a:r>
            <a:r>
              <a:rPr b="1" lang="el-GR" sz="4000" spc="-1" strike="noStrike">
                <a:solidFill>
                  <a:srgbClr val="ffcc00"/>
                </a:solidFill>
                <a:latin typeface="Garamond"/>
              </a:rPr>
              <a:t>με ρινο-κυστικό καθετήρα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l-GR" sz="20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Baron T. 1999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cc00"/>
                </a:solidFill>
                <a:latin typeface="Garamond"/>
              </a:rPr>
              <a:t>Συνδυασμένη λαπαροσκοπική-διαγαστρική αφαίρεση νεκρωμάτων με ταυτόχρονη δημιουργία γαστρο-κυστοστομίας στο οπίσθιο τοίχωμα του στομάχου υπό Γενική Αναισθησία στο Χειρουργείο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(Ammori 2002, Charnley R.M. 2006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cc00"/>
                </a:solidFill>
                <a:latin typeface="Garamond"/>
              </a:rPr>
              <a:t>Κατευθυνόμενες </a:t>
            </a:r>
            <a:r>
              <a:rPr b="1" lang="el-GR" sz="4000" spc="-1" strike="noStrike">
                <a:solidFill>
                  <a:srgbClr val="ff0000"/>
                </a:solidFill>
                <a:latin typeface="Garamond"/>
              </a:rPr>
              <a:t>διαοσφϋικές</a:t>
            </a:r>
            <a:r>
              <a:rPr b="1" lang="el-GR" sz="4000" spc="-1" strike="noStrike">
                <a:solidFill>
                  <a:srgbClr val="ffcc00"/>
                </a:solidFill>
                <a:latin typeface="Garamond"/>
              </a:rPr>
              <a:t> ελάχιστα επεμβατικές τεχνικέ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cc00"/>
                </a:solidFill>
                <a:latin typeface="Garamond"/>
              </a:rPr>
              <a:t>Μέσω παροχετευτικού σωλήνα πλύσεων, ενδοσκοπική αφαίρεση νεκρωμάτων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l-GR" sz="20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Castellanos G. 2002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cc00"/>
                </a:solidFill>
                <a:latin typeface="Garamond"/>
              </a:rPr>
              <a:t>Κατευθυνόμενες </a:t>
            </a:r>
            <a:r>
              <a:rPr b="1" lang="el-GR" sz="3600" spc="-1" strike="noStrike">
                <a:solidFill>
                  <a:srgbClr val="ff0000"/>
                </a:solidFill>
                <a:latin typeface="Garamond"/>
              </a:rPr>
              <a:t>διαοσφϋικές</a:t>
            </a:r>
            <a:r>
              <a:rPr b="1" lang="el-GR" sz="3600" spc="-1" strike="noStrike">
                <a:solidFill>
                  <a:srgbClr val="ffcc00"/>
                </a:solidFill>
                <a:latin typeface="Garamond"/>
              </a:rPr>
              <a:t> ελάχιστα επεμβατικές τεχνικέ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cc00"/>
                </a:solidFill>
                <a:latin typeface="Garamond"/>
              </a:rPr>
              <a:t>Διαδερμική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l-GR" sz="3600" spc="-1" strike="noStrike">
                <a:solidFill>
                  <a:srgbClr val="ffcc00"/>
                </a:solidFill>
                <a:latin typeface="Garamond"/>
              </a:rPr>
              <a:t> ενδοσκοπική εκτομή νεκρωμάτων δια 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“</a:t>
            </a:r>
            <a:r>
              <a:rPr b="1" lang="el-GR" sz="3600" spc="-1" strike="noStrike">
                <a:solidFill>
                  <a:srgbClr val="ffcc00"/>
                </a:solidFill>
                <a:latin typeface="Garamond"/>
              </a:rPr>
              <a:t>συριγγώδους πόρου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”</a:t>
            </a:r>
            <a:r>
              <a:rPr b="1" lang="el-GR" sz="3600" spc="-1" strike="noStrike">
                <a:solidFill>
                  <a:srgbClr val="ffcc00"/>
                </a:solidFill>
                <a:latin typeface="Garamond"/>
              </a:rPr>
              <a:t> μετά την τοποθέτηση οδηγού υπό την καθοδήγηση απεικονιστικών τεχνικών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l-GR" sz="18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Carter R. 200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cc00"/>
                </a:solidFill>
                <a:latin typeface="Garamond"/>
              </a:rPr>
              <a:t>Κατευθυνόμενες </a:t>
            </a:r>
            <a:r>
              <a:rPr b="1" lang="el-GR" sz="4000" spc="-1" strike="noStrike">
                <a:solidFill>
                  <a:srgbClr val="ff0000"/>
                </a:solidFill>
                <a:latin typeface="Garamond"/>
              </a:rPr>
              <a:t>διαοσφϋικές</a:t>
            </a:r>
            <a:r>
              <a:rPr b="1" lang="el-GR" sz="4000" spc="-1" strike="noStrike">
                <a:solidFill>
                  <a:srgbClr val="ffcc00"/>
                </a:solidFill>
                <a:latin typeface="Garamond"/>
              </a:rPr>
              <a:t> ελάχιστα επεμβατικές τεχνικέ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cc00"/>
                </a:solidFill>
                <a:latin typeface="Garamond"/>
              </a:rPr>
              <a:t>Ελάχιστα επεμβατική οπισθοπεριτοναϊκή εκτομή παγκρεατικών νεκρωμάτων (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MIRP)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(Connor S. 2003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713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1995480"/>
            <a:ext cx="84960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l-GR" sz="4000" spc="-1" strike="noStrike">
                <a:solidFill>
                  <a:srgbClr val="ffcc00"/>
                </a:solidFill>
                <a:latin typeface="Garamond"/>
              </a:rPr>
              <a:t>Η οξεία παγκρεατίτιδα αποτελεί σήμερα ένα κατ’ ουσίαν πρότυπο μελέτης γενικότερα της σήψεως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cc00"/>
                </a:solidFill>
                <a:latin typeface="Garamond"/>
              </a:rPr>
              <a:t>Η τεχνική 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MIRP </a:t>
            </a:r>
            <a:r>
              <a:rPr b="1" lang="el-GR" sz="4000" spc="-1" strike="noStrike">
                <a:solidFill>
                  <a:srgbClr val="ffcc00"/>
                </a:solidFill>
                <a:latin typeface="Garamond"/>
              </a:rPr>
              <a:t>επέτυχε μείωση της εγχειρητικής θνητότητας στο 19% από 39% σε ασθενείς με λαπαροτομία και συνεχή μετεγχειρητική πλύση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l-GR" sz="20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Connor S. et al Surgery 2005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cc00"/>
                </a:solidFill>
                <a:latin typeface="Garamond"/>
              </a:rPr>
              <a:t>Α. </a:t>
            </a:r>
            <a:r>
              <a:rPr b="1" lang="el-GR" sz="3200" spc="-1" strike="noStrike" u="sng">
                <a:solidFill>
                  <a:srgbClr val="ffcc00"/>
                </a:solidFill>
                <a:uFillTx/>
                <a:latin typeface="Garamond"/>
              </a:rPr>
              <a:t>Μειονεκτήματα της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MIR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cc00"/>
                </a:solidFill>
                <a:latin typeface="Garamond"/>
              </a:rPr>
              <a:t>Μακρύς χρόνος ενδονοσοκομειακής παραμονής (Μ.Ο. 51 ημ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cc00"/>
                </a:solidFill>
                <a:latin typeface="Garamond"/>
              </a:rPr>
              <a:t>Επαναλαμβανόμενες θεραπευτικές συνεδρίες (Μ.Ο. 4 ανά ασθενή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cc00"/>
                </a:solidFill>
                <a:latin typeface="Garamond"/>
              </a:rPr>
              <a:t>Υψηλό ποσοστό εντερικών και παγκρεατικών συριγγίων (20-60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cc00"/>
                </a:solidFill>
                <a:latin typeface="Garamond"/>
              </a:rPr>
              <a:t>Αιμορραγία στο 15% των περιπτώσεω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cc00"/>
                </a:solidFill>
                <a:latin typeface="Garamond"/>
              </a:rPr>
              <a:t>Β. </a:t>
            </a:r>
            <a:r>
              <a:rPr b="1" lang="el-GR" sz="3200" spc="-1" strike="noStrike" u="sng">
                <a:solidFill>
                  <a:srgbClr val="ffcc00"/>
                </a:solidFill>
                <a:uFillTx/>
                <a:latin typeface="Garamond"/>
              </a:rPr>
              <a:t>Μειονεκτήματα της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MIR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cc00"/>
                </a:solidFill>
                <a:latin typeface="Garamond"/>
              </a:rPr>
              <a:t>Αδυναμία εφαρμογής της επί νεκρωμάτων και στις δύο παρακολικές αύλακες ή σε πολυεστιακότητα των νεκρώσεω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cc00"/>
                </a:solidFill>
                <a:latin typeface="Garamond"/>
              </a:rPr>
              <a:t>Μη αιτιολογική αντιμετώπιση της παγκρεατίτιδος σε περίπτωση χολολιθιάσεω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Η διαοσφυϊκή ανοικτή προσπέλαση που εφαρμόζονταν παλαιότερα, μολονότι παρουσίαζε ποσοστά εγχειρητικής θνητότητας συγκρίσιμα προς αυτά της λαπαροτομίας με συνεχή πλύση, δεν έτυχε ευρείας εφαρμογής εξαιτίας του υψηλού ποσοστού επιπλοκών (συρίγγια-αιμορραγία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0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3454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345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cc00"/>
                </a:solidFill>
                <a:latin typeface="Garamond"/>
              </a:rPr>
              <a:t>Η «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video </a:t>
            </a:r>
            <a:r>
              <a:rPr b="0" lang="el-GR" sz="3200" spc="-1" strike="noStrike">
                <a:solidFill>
                  <a:srgbClr val="ffcc00"/>
                </a:solidFill>
                <a:latin typeface="Garamond"/>
              </a:rPr>
              <a:t>υποβοηθουμένη» διαοσφυϊκή εκτομή των νεκρωμάτων (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VARD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cc00"/>
                </a:solidFill>
                <a:latin typeface="Garamond"/>
              </a:rPr>
              <a:t>Συνδυάζει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cc00"/>
                </a:solidFill>
                <a:latin typeface="Garamond"/>
              </a:rPr>
              <a:t>Οσφυϊκή τομή 5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c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cc00"/>
                </a:solidFill>
                <a:latin typeface="Garamond"/>
              </a:rPr>
              <a:t>Χαμηλό ποσοστό επιπλοκώ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cc00"/>
                </a:solidFill>
                <a:latin typeface="Garamond"/>
              </a:rPr>
              <a:t>Αφαίρεση μεγάλου μεγέθους νεκρωμάτω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cc00"/>
                </a:solidFill>
                <a:latin typeface="Garamond"/>
              </a:rPr>
              <a:t>Χαμηλή νοσηρότητα εφόσον συχνά δεν απαιτείται επανεπέμβασ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7416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cc00"/>
                </a:solidFill>
                <a:latin typeface="Garamond"/>
              </a:rPr>
              <a:t>ΓΕΝΙΚΑ ΣΥΜΠΕΡΑΣΜΑΤΑ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cc00"/>
                </a:solidFill>
                <a:latin typeface="Garamond"/>
              </a:rPr>
              <a:t>Η Ν.Π. χωρίς επιμολυσμένα νεκρώματα ΔΕΝ αποτελεί χειρουργική πάθηση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cc00"/>
                </a:solidFill>
                <a:latin typeface="Garamond"/>
              </a:rPr>
              <a:t>Επιπλοκές της βαρειάς Ν.Π. πρέπει να αντιμετωπίζονται με ελάχιστα επεμβατικές τεχνικέ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ΤΙ ΝΕΟΤΕΡΟ ΣΤΗ ΝΕΚΡΩΤΙΚΗ ΠΑΓΚΡΕΑΤΙΤΙΔΑ (Ν.Π.);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Από πολλές κλινικές παρατηρήσεις επιβεβαιώνεται η άποψη ότι αμέσως μετά τη διενέργεια χειρουργικής επεμβάσεως σε ασθενείς με σηπτική νεκρωτική παγκρεατίτιδα, υπάρχει επιβάρυνση της γενικής καταστάσεω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ΤΙ ΝΕΟΤΕΡΟ ΣΤΗ ΝΕΚΡΩΤΙΚΗ ΠΑΓΚΡΕΑΤΙΤΙΔΑ (Ν.Π.);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ΓΕΝΙΚΑ ΣΥΜΠΕΡΑΣΜΑΤΑ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Η Ν.Π. με επιμολυσμένα νεκρώματα θα πρέπει να χειρουργείται όσο το δυνατόν αργότερα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Υπάρχει τάση για εφαρμογή ελάχιστα επεμβατικών τεχνικών ή και για αποφυγή χειρουργικής επεμβάσεως παντελώ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Σαν συμπέρασμα όλων αυτών έχει διατυπωθεί η θεωρία ότι η ανοικτή χειρουργική επέμβαση στη σηπτική νεκρωτική παγκρεατίτιδα λειτουργεί σαν «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δεύτερο χτύπημα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» για τον ασθενή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cc00"/>
                </a:solidFill>
                <a:latin typeface="Garamond"/>
              </a:rPr>
              <a:t>Το δεύτερο αυτό «χτύπημα» προκαλεί νέα σημαντική φλεγμονώδη αντίδραση ενός ήδη σε βαρειά γενική κατάσταση ασθενούς, με δραματική επιδείνωση της 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MODS,</a:t>
            </a:r>
            <a:r>
              <a:rPr b="1" lang="el-GR" sz="4000" spc="-1" strike="noStrike">
                <a:solidFill>
                  <a:srgbClr val="ffcc00"/>
                </a:solidFill>
                <a:latin typeface="Garamond"/>
              </a:rPr>
              <a:t> από την οποία τελικώς καταλήγει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Σαν λογικό επακόλουθο αυτής της θεωρίας, προτείνεται: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α) η όσο το δυνατόν συντηρητική αντιμετώπιση και αποφυγή χειρουργικής επεμβάσεως για αποτροπή του «χτυπήματος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ή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β) μείωση της εντάσεως του «χτυπήματος» με την εφαρμογή ελάχιστα επεμβατικών τεχνικώ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Α) Ενδείξεις εφαρμογής ελάχιστα επεμβατικών τεχνικώ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στην αρχική φάση της νόσου για βελτίωση της γενικής καταστάσεως και συνέχιση της συντηρητικής αγωγή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Β) Ενδείξεις εφαρμογής ελάχιστα επεμβατικών τεχνικώ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ασθενείς σε κρίσιμη γενική κατάσταση για προσωρινή βελτίωση, ώστε να οδεύσουν στο χειρουργείο και να μειωθεί η βαρύτητα της επεμβάσεω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345440" cy="13413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Νεότερες «αμφιλεγόμενες» τεχνικές στη χειρουργική αντιμετώπιση της Ν.Π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Γ) Ενδείξεις εφαρμογής ελάχιστα επεμβατικών τεχνικώ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κατά την ύστερη φάση της νόσου μετά από περιχαράκωση της φλεγμονής για αντιμετώπιση τυχόν επιπλοκών και αποφυγή διαταράξεως της ισορροπίας του οργανισμού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17:16:05Z</dcterms:created>
  <dc:creator>THEODOROS</dc:creator>
  <dc:description/>
  <dc:language>en-US</dc:language>
  <cp:lastModifiedBy>THEODOROS</cp:lastModifiedBy>
  <dcterms:modified xsi:type="dcterms:W3CDTF">2008-06-09T18:17:57Z</dcterms:modified>
  <cp:revision>28</cp:revision>
  <dc:subject/>
  <dc:title>ΑΦΟΡΙΣΜΟΣ</dc:title>
</cp:coreProperties>
</file>